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1606-2C08-4710-975D-891CB1D9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AC5F-3530-4E7D-B9BD-B4959E3D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1CBC-1776-4AB4-AAFD-EB9ECC13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4B17-608B-4744-A7F1-632028FA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720E-C414-4555-A1F1-DD8FA895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D45A-029D-4CFD-9F2E-F7EA3E7D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C1AB-ECED-4E10-8514-520140E5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67B4-EE0B-4081-A189-75144C80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05CC-F998-4211-BDF8-66AA6FC7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AFE8-A920-4654-A9DB-1CDFA80B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F42-7333-45D7-A2C0-2F36C166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F9A9-8F8A-49D4-8E25-3ADA627C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D1A3-A7F8-497E-8649-695D8568EB0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04640"/>
            <a:ext cx="18716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58920" y="1124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2133720"/>
            <a:ext cx="248292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chi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GRAZIONE qu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ersone di un pae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ne vanno all’ester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vere e cercare lav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37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4724280"/>
            <a:ext cx="2665440" cy="180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i italiani sono sta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granti in molti paesi 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he se meno di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,lo sono anche ogg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765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16360" y="5013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4797360"/>
            <a:ext cx="165744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 princip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492000" y="5157720"/>
            <a:ext cx="358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32000" y="5950080"/>
            <a:ext cx="8636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e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27640" y="5157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5805360"/>
            <a:ext cx="79200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03640" y="5157720"/>
            <a:ext cx="505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48360" y="5877000"/>
            <a:ext cx="100800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a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35280" y="333360"/>
            <a:ext cx="1873440" cy="1008000"/>
          </a:xfrm>
          <a:prstGeom prst="rect">
            <a:avLst/>
          </a:prstGeom>
          <a:solidFill>
            <a:srgbClr val="faa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ersone van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ivere in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ro paese 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411240" y="1052640"/>
            <a:ext cx="320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08720" y="404640"/>
            <a:ext cx="1224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04000" y="189000"/>
            <a:ext cx="1224000" cy="647640"/>
          </a:xfrm>
          <a:prstGeom prst="rect">
            <a:avLst/>
          </a:prstGeom>
          <a:solidFill>
            <a:srgbClr val="faa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v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08720" y="83664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43640" y="981000"/>
            <a:ext cx="1224000" cy="1584360"/>
          </a:xfrm>
          <a:prstGeom prst="rect">
            <a:avLst/>
          </a:prstGeom>
          <a:solidFill>
            <a:srgbClr val="faa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uggire 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tu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ffici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semp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uerre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981000"/>
            <a:ext cx="935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1844640"/>
            <a:ext cx="2881080" cy="1440000"/>
          </a:xfrm>
          <a:prstGeom prst="rect">
            <a:avLst/>
          </a:prstGeom>
          <a:solidFill>
            <a:srgbClr val="b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chiama IMMI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do in un pae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no stranieri a viv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cercano lav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360" y="2781360"/>
            <a:ext cx="863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93080" y="3141720"/>
            <a:ext cx="1295280" cy="1727280"/>
          </a:xfrm>
          <a:prstGeom prst="rect">
            <a:avLst/>
          </a:prstGeom>
          <a:solidFill>
            <a:srgbClr val="b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prattu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803640" y="4869000"/>
            <a:ext cx="576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16720" y="5661000"/>
            <a:ext cx="1079640" cy="504720"/>
          </a:xfrm>
          <a:prstGeom prst="rect">
            <a:avLst/>
          </a:prstGeom>
          <a:solidFill>
            <a:srgbClr val="b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101080" y="4941720"/>
            <a:ext cx="712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740720" y="5661000"/>
            <a:ext cx="1403280" cy="576360"/>
          </a:xfrm>
          <a:prstGeom prst="rect">
            <a:avLst/>
          </a:prstGeom>
          <a:solidFill>
            <a:srgbClr val="b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/Alb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7:55:31Z</dcterms:created>
  <dc:creator>PC01</dc:creator>
  <dc:description/>
  <dc:language>en-US</dc:language>
  <cp:lastModifiedBy>PC01</cp:lastModifiedBy>
  <dcterms:modified xsi:type="dcterms:W3CDTF">2016-12-05T08:30:20Z</dcterms:modified>
  <cp:revision>3</cp:revision>
  <dc:subject/>
  <dc:title>Diapositiva 1</dc:title>
</cp:coreProperties>
</file>